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39FB-366C-453F-924D-9C81ABFD4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2139-0635-4885-9D35-3EA9165C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16C7-AA91-4925-9B18-5BB508B14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4E98-27D9-4403-BB7A-A972E9C58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76C1-243C-488A-9E5E-BD196D41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F8CB-DD2B-4D31-A84D-3380A1DD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7ABF-86D1-4AD4-8A10-4D17AC28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609A-CF18-4682-82A4-AA3DBB4F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C9FF-0707-4169-8E7A-A7CC4E29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E81A-C44C-435D-9E44-0714DEFA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344A-158D-401C-9662-3BB6E9A8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AFF7-54A6-493F-B7B2-5D899550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7477-E5C0-49EA-AF21-79F795DD8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45 Každý duch nech veleb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žiš prišiel medzi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ľme Boha v každý čas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aždý duch nech veleb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a slávy na nebi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er a pokoj národ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oniec zlobe, úklad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sať môže celý sve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ykúpený z hriechu, bied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siaľ znie nám radost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ev o sveta spasen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žiš prišiel medzi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ľme Boha v každý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istus, nebies okras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ej pocty vzdáva sa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u Otca v sláve ž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maštali sa narod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šiel na svet Boží Sy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baviť ľudí hriechu, vín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mmanuel, s nami Bo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kala vekov, spásy Ro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žiš prišiel medzi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ľme Boha v každý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taj, Knieža pokoj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vete sváru, rozbroja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taj, Spása odvek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techou si človek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šlo ráno spasen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rť je moci zbavená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lesaj nebo, jasaj z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u vzišiel večný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20:16:26Z</dcterms:modified>
  <cp:revision>31</cp:revision>
  <dc:subject/>
  <dc:title>Je veľký náš Pán, on slávy je Kráľ Nech do všetkých strán  spev vrúcnych znie chvál.</dc:title>
</cp:coreProperties>
</file>